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C950-8005-40E1-B761-9A5FA986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1ADC-007D-4859-BBE9-F2DF41DF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C55A-42B6-441D-9315-77BB033AA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A4E9-2279-4D03-A96C-700B6EBE8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568F-3BD7-4CC0-906B-DBC5E70A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4E5E-6E5E-4206-BF72-15175C2D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4AEC-8A1E-429C-9822-8CFF5767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5330-203C-4339-A53C-FC7E4287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26C0-E847-4D22-8BE5-5F63A294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CDFF-3E77-4D58-AA4A-8A25D6A4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C475-7090-4106-9439-AE0BD6AA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85DC-060C-4D4C-AE88-F1396BF1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468E-7012-4832-B1B5-DC089D1C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67D8-E9C2-407B-B7DD-9EFC4D6E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8681-C046-4F36-AAE5-61FA4A4B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6B25-FB24-436C-A9DD-843163C0C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D1B0-923B-416C-9110-50FC2668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83B8-0257-4B7C-B42C-4B63A8F7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8A38-0FC5-4CA5-A3DE-4FA8D3AE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0B59-76B5-4B13-B903-E19267C6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F419-671F-403F-BE83-E7448E24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6D98-0E77-42AB-9CC8-CA32EE41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622B-E444-45EE-AF6F-8FEBBF29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EA6B-C03F-4CC4-B6D1-0C80FE43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e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8E43-B74E-439C-ADC9-A1F619BE32C8}" type="slidenum">
              <a:rPr b="0" lang="es-E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e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E930-4BF9-4A81-8CF4-73505C3A8DAD}" type="slidenum"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5b5249"/>
                </a:solidFill>
                <a:latin typeface="Times New Roman"/>
              </a:rPr>
              <a:t>EL PROCESO DE FOTOSÍNTESI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2a3d7a"/>
                </a:solidFill>
                <a:latin typeface="Times New Roman"/>
              </a:rPr>
              <a:t>CLOROPLASTO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4" name="Picture 4" descr="\\Apolo\Home\dpacheco\BASE DE DATOS\FISIOLOGIA VEGETAL\LIBRO-FOTOSÍNTESIS\FOTOSINTESIS - LibroBOTANICAOnLine - FOTOSINTESIS_archivos\Image13.gif"/>
          <p:cNvPicPr/>
          <p:nvPr/>
        </p:nvPicPr>
        <p:blipFill>
          <a:blip r:embed="rId1"/>
          <a:stretch/>
        </p:blipFill>
        <p:spPr>
          <a:xfrm>
            <a:off x="1981080" y="1870200"/>
            <a:ext cx="609624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611280" y="289080"/>
            <a:ext cx="8353440" cy="62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000" spc="-1" strike="noStrike">
                <a:solidFill>
                  <a:srgbClr val="2a3d7a"/>
                </a:solidFill>
                <a:latin typeface="Times New Roman"/>
              </a:rPr>
              <a:t>1. Reacciones dependientes de luz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00100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5b5249"/>
                </a:solidFill>
                <a:latin typeface="Times New Roman"/>
              </a:rPr>
              <a:t>Ocurren en las granas de los cloroplastos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5b5249"/>
                </a:solidFill>
                <a:latin typeface="Times New Roman"/>
              </a:rPr>
              <a:t>La clorofila y otras moléculas de pigmento presentes en las granas del cloroplasto absorben la energía de luz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5b5249"/>
                </a:solidFill>
                <a:latin typeface="Times New Roman"/>
              </a:rPr>
              <a:t>Esto aumenta la energía de ciertos electrones en las moléculas de los pigmentos activándolos. Esto los lleva a un nivel de energía más alto. A medida que los electrones de los p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es-EC" sz="2800" spc="-1" strike="noStrike">
                <a:solidFill>
                  <a:srgbClr val="5b5249"/>
                </a:solidFill>
                <a:latin typeface="Times New Roman"/>
              </a:rPr>
              <a:t>gmentos llegan a un nivel de energía más bajo, liberan energí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20952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0" name="Picture 4" descr="\\Apolo\Home\dpacheco\BASE DE DATOS\FISIOLOGIA VEGETAL\LIBRO-FISIOLOGÍA VEGETAL\Fotosíntesis_archivos\lightrxn.gif"/>
          <p:cNvPicPr/>
          <p:nvPr/>
        </p:nvPicPr>
        <p:blipFill>
          <a:blip r:embed="rId1"/>
          <a:stretch/>
        </p:blipFill>
        <p:spPr>
          <a:xfrm>
            <a:off x="533520" y="2133720"/>
            <a:ext cx="845820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09480" y="8377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5b5249"/>
                </a:solidFill>
                <a:latin typeface="Times New Roman"/>
              </a:rPr>
              <a:t>3. Los electrones regresan a un nivel de en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e</a:t>
            </a:r>
            <a:r>
              <a:rPr b="0" lang="es-EC" sz="2400" spc="-1" strike="noStrike">
                <a:solidFill>
                  <a:srgbClr val="5b5249"/>
                </a:solidFill>
                <a:latin typeface="Times New Roman"/>
              </a:rPr>
              <a:t>rgía más bajo al pasar por una cadena de transporte de electrones, en forma muy parecida a lo que ocurre en la respiración celular. En el proceso de liberación de energía de los electrones, se produce ATP. En otras palabras, la energía de los el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e</a:t>
            </a:r>
            <a:r>
              <a:rPr b="0" lang="es-EC" sz="2400" spc="-1" strike="noStrike">
                <a:solidFill>
                  <a:srgbClr val="5b5249"/>
                </a:solidFill>
                <a:latin typeface="Times New Roman"/>
              </a:rPr>
              <a:t>ctrones se convierte en energía utilizable en los cloroplastos. El ATP que se produce en las reacciones dependientes de luz se utiliza en las reacciones de oscuridad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4308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3" name="Picture 7" descr="\\Apolo\Home\dpacheco\BASE DE DATOS\FISIOLOGIA VEGETAL\LIBRO-FISIOLOGÍA VEGETAL\Fotosíntesis_archivos\cyclicph.gif"/>
          <p:cNvPicPr/>
          <p:nvPr/>
        </p:nvPicPr>
        <p:blipFill>
          <a:blip r:embed="rId1"/>
          <a:stretch/>
        </p:blipFill>
        <p:spPr>
          <a:xfrm>
            <a:off x="2057400" y="3552840"/>
            <a:ext cx="487692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539640" y="23508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2a3d7a"/>
                </a:solidFill>
                <a:latin typeface="Times New Roman"/>
              </a:rPr>
              <a:t>Formación de ATP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17928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Picture 5" descr="\\Apolo\Home\dpacheco\BASE DE DATOS\FISIOLOGIA VEGETAL\LIBRO-FISIOLOGÍA VEGETAL\Fotosíntesis_archivos\fotosint.jpg"/>
          <p:cNvPicPr/>
          <p:nvPr/>
        </p:nvPicPr>
        <p:blipFill>
          <a:blip r:embed="rId1"/>
          <a:stretch/>
        </p:blipFill>
        <p:spPr>
          <a:xfrm>
            <a:off x="762120" y="2319480"/>
            <a:ext cx="8111880" cy="3852720"/>
          </a:xfrm>
          <a:prstGeom prst="rect">
            <a:avLst/>
          </a:prstGeom>
          <a:ln w="0">
            <a:noFill/>
          </a:ln>
        </p:spPr>
      </p:pic>
      <p:sp>
        <p:nvSpPr>
          <p:cNvPr id="128" name="1 CuadroTexto"/>
          <p:cNvSpPr/>
          <p:nvPr/>
        </p:nvSpPr>
        <p:spPr>
          <a:xfrm>
            <a:off x="1053000" y="5516640"/>
            <a:ext cx="1689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PQ: plastoquinon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PC: plastocianin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0404"/>
                </a:solidFill>
                <a:latin typeface="Times New Roman"/>
              </a:rPr>
              <a:t>Fd: ferredoxin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1980720"/>
            <a:ext cx="45720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5b5249"/>
                </a:solidFill>
                <a:latin typeface="Times New Roman"/>
              </a:rPr>
              <a:t>La mayoría de los autótrofos fabrican su propio alimento utilizando la energía luminosa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5b5249"/>
                </a:solidFill>
                <a:latin typeface="Times New Roman"/>
              </a:rPr>
              <a:t>La energía de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la </a:t>
            </a:r>
            <a:r>
              <a:rPr b="0" lang="es-EC" sz="2400" spc="-1" strike="noStrike">
                <a:solidFill>
                  <a:srgbClr val="5b5249"/>
                </a:solidFill>
                <a:latin typeface="Times New Roman"/>
              </a:rPr>
              <a:t>luz se convierte en la energía química que se almacena en la glucosa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5b5249"/>
                </a:solidFill>
                <a:latin typeface="Times New Roman"/>
              </a:rPr>
              <a:t>El proceso mediante el cual los autótrofos fabrican su propio alimento se llama fotosíntesis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5b5249"/>
                </a:solidFill>
                <a:latin typeface="Times New Roman"/>
              </a:rPr>
              <a:t>La mayoría de los seres vivos dependen directa o indirectamente de la luz para conseguir su aliment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tretch/>
        </p:blipFill>
        <p:spPr>
          <a:xfrm>
            <a:off x="5029200" y="2732040"/>
            <a:ext cx="3886200" cy="30830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2a3d7a"/>
                </a:solidFill>
                <a:latin typeface="Times New Roman"/>
              </a:rPr>
              <a:t>Las condiciones necesarias para la fotosíntesi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2a3d7a"/>
                </a:solidFill>
                <a:latin typeface="Times New Roman"/>
              </a:rPr>
              <a:t>La fotosíntesis es un proceso complejo. Sin embargo, la reacción general se puede resumir de esta manera: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312408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es-EC" sz="2800" spc="-1" strike="noStrike">
                <a:solidFill>
                  <a:srgbClr val="5b5249"/>
                </a:solidFill>
                <a:latin typeface="Times New Roman"/>
              </a:rPr>
              <a:t>6 CO</a:t>
            </a:r>
            <a:r>
              <a:rPr b="0" lang="es-EC" sz="28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s-EC" sz="2800" spc="-1" strike="noStrike">
                <a:solidFill>
                  <a:srgbClr val="5b5249"/>
                </a:solidFill>
                <a:latin typeface="Times New Roman"/>
              </a:rPr>
              <a:t> + 6 H</a:t>
            </a:r>
            <a:r>
              <a:rPr b="0" lang="es-EC" sz="28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s-EC" sz="2800" spc="-1" strike="noStrike">
                <a:solidFill>
                  <a:srgbClr val="5b5249"/>
                </a:solidFill>
                <a:latin typeface="Times New Roman"/>
              </a:rPr>
              <a:t>O + energía de luz           C</a:t>
            </a:r>
            <a:r>
              <a:rPr b="0" lang="es-EC" sz="2800" spc="-1" strike="noStrike" baseline="-25000">
                <a:solidFill>
                  <a:srgbClr val="5b5249"/>
                </a:solidFill>
                <a:latin typeface="Times New Roman"/>
              </a:rPr>
              <a:t>6</a:t>
            </a:r>
            <a:r>
              <a:rPr b="0" lang="es-EC" sz="2800" spc="-1" strike="noStrike">
                <a:solidFill>
                  <a:srgbClr val="5b5249"/>
                </a:solidFill>
                <a:latin typeface="Times New Roman"/>
              </a:rPr>
              <a:t>H</a:t>
            </a:r>
            <a:r>
              <a:rPr b="0" lang="es-EC" sz="2800" spc="-1" strike="noStrike" baseline="-25000">
                <a:solidFill>
                  <a:srgbClr val="5b5249"/>
                </a:solidFill>
                <a:latin typeface="Times New Roman"/>
              </a:rPr>
              <a:t>12</a:t>
            </a:r>
            <a:r>
              <a:rPr b="0" lang="es-EC" sz="2800" spc="-1" strike="noStrike">
                <a:solidFill>
                  <a:srgbClr val="5b5249"/>
                </a:solidFill>
                <a:latin typeface="Times New Roman"/>
              </a:rPr>
              <a:t>O</a:t>
            </a:r>
            <a:r>
              <a:rPr b="0" lang="es-EC" sz="2800" spc="-1" strike="noStrike" baseline="-25000">
                <a:solidFill>
                  <a:srgbClr val="5b5249"/>
                </a:solidFill>
                <a:latin typeface="Times New Roman"/>
              </a:rPr>
              <a:t>6</a:t>
            </a:r>
            <a:r>
              <a:rPr b="0" lang="es-EC" sz="2800" spc="-1" strike="noStrike">
                <a:solidFill>
                  <a:srgbClr val="5b5249"/>
                </a:solidFill>
                <a:latin typeface="Times New Roman"/>
              </a:rPr>
              <a:t> + 6 O</a:t>
            </a:r>
            <a:r>
              <a:rPr b="0" lang="es-EC" sz="28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s-EC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Line 4"/>
          <p:cNvSpPr/>
          <p:nvPr/>
        </p:nvSpPr>
        <p:spPr>
          <a:xfrm>
            <a:off x="5562720" y="3429000"/>
            <a:ext cx="76176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5434920" y="2909880"/>
            <a:ext cx="104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fa8b1c"/>
                </a:solidFill>
                <a:latin typeface="Times New Roman"/>
              </a:rPr>
              <a:t>enzima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cc010"/>
                </a:solidFill>
                <a:latin typeface="Times New Roman"/>
              </a:rPr>
              <a:t>clorofila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2a3d7a"/>
                </a:solidFill>
                <a:latin typeface="Times New Roman"/>
              </a:rPr>
              <a:t>EN LA FOTOSÍNTESIS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5b5249"/>
                </a:solidFill>
                <a:latin typeface="Times New Roman"/>
              </a:rPr>
              <a:t>La luz solar es la fuente de energía que atrapa la clorofila, un pigmento verde en las células que los autótrofos utilizan para la fotosíntesi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5b5249"/>
                </a:solidFill>
                <a:latin typeface="Times New Roman"/>
              </a:rPr>
              <a:t>El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</a:t>
            </a:r>
            <a:r>
              <a:rPr b="0" lang="es-EC" sz="3200" spc="-1" strike="noStrike">
                <a:solidFill>
                  <a:srgbClr val="5b5249"/>
                </a:solidFill>
                <a:latin typeface="Times New Roman"/>
              </a:rPr>
              <a:t>ióxido de carbono y el agua son las materias prima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5b5249"/>
                </a:solidFill>
                <a:latin typeface="Times New Roman"/>
              </a:rPr>
              <a:t>Las enzimas y las coenzimas controlan la síntesis de glucosa, a partir de las materias prima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2a3d7a"/>
                </a:solidFill>
                <a:latin typeface="Times New Roman"/>
              </a:rPr>
              <a:t>LA LUZ Y LOS PIGMENTO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419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5b5249"/>
                </a:solidFill>
                <a:latin typeface="Times New Roman"/>
              </a:rPr>
              <a:t>La luz es una forma de energía radiante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5b5249"/>
                </a:solidFill>
                <a:latin typeface="Times New Roman"/>
              </a:rPr>
              <a:t>La energía radiante es energía que se propaga en ondas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5b5249"/>
                </a:solidFill>
                <a:latin typeface="Times New Roman"/>
              </a:rPr>
              <a:t>Hay varias formas de energía radiante (</a:t>
            </a:r>
            <a:r>
              <a:rPr b="0" lang="es-EC" sz="2000" spc="-1" strike="noStrike">
                <a:solidFill>
                  <a:srgbClr val="5b5249"/>
                </a:solidFill>
                <a:latin typeface="Times New Roman"/>
              </a:rPr>
              <a:t>ondas de radio, infrarrojas, ultravioletas, rayos X, etc</a:t>
            </a:r>
            <a:r>
              <a:rPr b="0" lang="es-EC" sz="2400" spc="-1" strike="noStrike">
                <a:solidFill>
                  <a:srgbClr val="5b5249"/>
                </a:solidFill>
                <a:latin typeface="Times New Roman"/>
              </a:rPr>
              <a:t>.)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5b5249"/>
                </a:solidFill>
                <a:latin typeface="Times New Roman"/>
              </a:rPr>
              <a:t>Para sintetizar alimento, se usan únicamente las ondas de luz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3" name="Picture 7" descr="imagen01.GIF (4554 bytes)"/>
          <p:cNvPicPr/>
          <p:nvPr/>
        </p:nvPicPr>
        <p:blipFill>
          <a:blip r:embed="rId1"/>
          <a:stretch/>
        </p:blipFill>
        <p:spPr>
          <a:xfrm>
            <a:off x="4800600" y="3141720"/>
            <a:ext cx="419112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5b5249"/>
                </a:solidFill>
                <a:latin typeface="Times New Roman"/>
              </a:rPr>
              <a:t>Cuando la luz choca con la materia, parte de la energía de la luz se absorbe y se convierte en otras formas de energí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5b5249"/>
                </a:solidFill>
                <a:latin typeface="Times New Roman"/>
              </a:rPr>
              <a:t>Cuando en una célula la luz del sol choca con las moléculas de clorofila, la clorofila absorbe energía de luz que, eventualmente, se convierte en energía química y se almacena en las moléculas de glucosa que se producen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274680" y="19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2a3d7a"/>
                </a:solidFill>
                <a:latin typeface="Times New Roman"/>
              </a:rPr>
              <a:t>CLASES DE CLOROFIL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2329920"/>
            <a:ext cx="434340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5b5249"/>
                </a:solidFill>
                <a:latin typeface="Times New Roman"/>
              </a:rPr>
              <a:t>Hay varias clases de clorofila, las cuales, generalmente se designan como a, b, c y d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5b5249"/>
                </a:solidFill>
                <a:latin typeface="Times New Roman"/>
              </a:rPr>
              <a:t>Algunas bacterias poseen una clase de clorofila que no está en las plantas ni en las algas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5b5249"/>
                </a:solidFill>
                <a:latin typeface="Times New Roman"/>
              </a:rPr>
              <a:t>Sin embargo, todas las moléculas de clorofila contienen el elemento magnesio (Mg)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8" name="Picture 7" descr="clorofila.jpg (17746 bytes)"/>
          <p:cNvPicPr/>
          <p:nvPr/>
        </p:nvPicPr>
        <p:blipFill>
          <a:blip r:embed="rId1"/>
          <a:stretch/>
        </p:blipFill>
        <p:spPr>
          <a:xfrm>
            <a:off x="4952880" y="2577960"/>
            <a:ext cx="411480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407880" y="149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0" name="Picture 4" descr="\\Apolo\Home\dpacheco\BASE DE DATOS\FISIOLOGIA VEGETAL\LIBRO-FISIOLOGÍA VEGETAL\Fotosíntesis_archivos\clorof.gif"/>
          <p:cNvPicPr/>
          <p:nvPr/>
        </p:nvPicPr>
        <p:blipFill>
          <a:blip r:embed="rId1"/>
          <a:stretch/>
        </p:blipFill>
        <p:spPr>
          <a:xfrm>
            <a:off x="2039760" y="1542960"/>
            <a:ext cx="672336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5b5249"/>
                </a:solidFill>
                <a:latin typeface="Times New Roman"/>
              </a:rPr>
              <a:t>Los autótrofos también poseen unos pigmentos llamados carotenoides que pueden ser de color anaranjado, amarillo o rojo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5b5249"/>
                </a:solidFill>
                <a:latin typeface="Times New Roman"/>
              </a:rPr>
              <a:t>El color verde de la clorofila generalmente enmascara estos pigmentos. Los cuales, sin embargo, se pueden ver en las hojas durante el otoño, cuando disminuye la cantidad de clorofil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5b5249"/>
                </a:solidFill>
                <a:latin typeface="Times New Roman"/>
              </a:rPr>
              <a:t>Los carotenoides también absorben luz pero son menos importantes que la clorofila en este proceso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anny Zirulnik</dc:creator>
  <dc:description/>
  <dc:language>en-US</dc:language>
  <cp:lastModifiedBy>Fanny Zirulnik</cp:lastModifiedBy>
  <dcterms:modified xsi:type="dcterms:W3CDTF">2015-04-06T22:49:23Z</dcterms:modified>
  <cp:revision>12</cp:revision>
  <dc:subject/>
  <dc:title>PowerPoint Presentation</dc:title>
</cp:coreProperties>
</file>